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168C-AF8A-4311-A31F-445FE3FE5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ou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 = 130 + 2n, C = cost of trip in dollars, n = number of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.  The slope is 2, the y-intercept (vertical intercept) =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lope indicates that for each additional child we take on the trip the cost increases by $2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initial cost is $130, the cost of taking just the bus to the f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.  C(5) means the cost of taking 5 children to the f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(5) = $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.  2n + 130 = 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n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the number of children we can take if we have $146 to sp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F56-E94C-42E9-AD47-1D180BBD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506-095E-435F-9AF9-5A001225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958-76DC-4F81-B5AC-C66A69AB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481-5477-40FA-B13C-C14C53C7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62B8-0D1B-4683-B1BE-5FA147FF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7142-B915-4D57-8C23-F391017F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006D-619A-4381-96B1-AD463A44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5D7D-3974-4F92-B462-ED58D9C8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B157-B779-4BE6-9D47-A56640E8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3DF6-190C-4513-AEC9-F6F0E927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BB26-F250-4EAF-8DFA-567C80C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577-2796-44B0-9DE5-539A1F73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7E48-D80E-46FD-BCCA-7BD9AD0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FFE-CABF-42F7-B274-8EB4381D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B8C5-5EB6-4554-9F93-B1D9A665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A173-4019-4708-BF0F-1D0C3518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E0A2-6BD9-4FCB-8BBF-C48C72E6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B95-49CE-4E3D-8448-9D4D62AF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17E-C3DE-4620-BAC5-28DCAF58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DC2-18D9-4885-B485-E566ED0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646-596F-40EA-B6AB-6C14D318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122-A6F8-4F2B-BB9B-6BC1342E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0FF-84CF-4D33-BDCC-F911B5A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D9E-F7FB-4784-8C08-FDB942A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D6B5-4507-48BD-A71F-10AF9918ED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64DF-5162-4B00-AFF7-2F132A20BC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1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Functions a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int-Slope For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Given point, (a, b), and slope, m, the equation can be found using the formu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y – b = m(x – 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is is called the point-slope form of the 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Find the equation of the line passing through the given point with the given slope.  Write your answer in point slope for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6, 12), m =  –1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1, -4), m = 1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Find the equation of the line passing through the given points.  Use the first point as 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,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) and write your answer in point slope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-2,3), (1,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-1,2), (-2,-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Slope-Intercept Form of a 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lope Intercept form of a li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mx +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m = slop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b= y-intercep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Writing equations-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given slope and a poin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Find the equation of each line in point slope form and in slope-intercep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2,3) m = 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-3, 5) m =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-8, 7) m = -3/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cep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Horizontal Intercept- where the line crosses the x ax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is can be found by letting y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Vertical Intercept- where the line crosses the y ax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is can be found by letting x = 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e the x- and y-intercepts on the following l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3x – 5y =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/3)y – x = 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rizontal and Vertical Line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quation of the horizontal line with y-intercept b is y = 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quation of the vertical line with x-intercept k is x = 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equation of the line satisfying the condi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 passing through (1.95, 10.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izontal passing through (1.95, 10.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allel and Perpendicular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Parallel lines have the same slope.  (They are changing at the same r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lopes of perpendicular lines are negative reciprocals of one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½ and -2; 2/3 and -3/2; -5 and 1/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ing Discrete D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 can graph the points and see if they are line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ter the data from example 1 into L1 and L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er the data…if there is already data in your lists you can more the cursor to the very top (on L1) and press clear enter.  This will clear the li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urn Stat plot 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ss 2nd y=  (stat plo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ype: first option, this is the scatter pl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h the scatter pl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Zoomstat – this changes the window to values that are best for your set of data, without us having to pick the best wind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For each of the following pairs of lines, determine whether the lines are parallel, perpendicular or nei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.  3x + 2y = 4 and 6x + 4y =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b.  5x – 7y = 3 and 4x – 3y =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.  5x – 7y = 15 and 15y - 21x =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.  ax = by = c and akx +aky = d, (a ≠ 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Write the Equation Parallel to a given 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x – 3y = 9, (-9,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x + 5y = 16, (-2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Write the Equation Perpendicular to a given li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x + 4y = 8, (7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x – 8y = 10, (1, 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how that the points (1, 1), (3,4) and (4,-1) from the vertices of a right tri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s values that are between two or more known data va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po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s values that are not between two known data va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1 #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 Vari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x and y denote two quantities.  Then y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irectly proportio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x, or 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varies direc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x, if there exists a nonzero number k such that y = kx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 is called the constant of proportionality or the constant of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4 # 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2 #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ing Discrete D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by graphing the equation as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the equation into y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 trace or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ne should go through all of the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are done using the stat plot option go to stat plot and choose 4:plots off enter.  This will shut off the statplo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hange your window back to standard –10-10 press zoom, zoom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3 #8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03 #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04 #1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8 #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9 #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9 #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9 #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19 #6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0 #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Regression 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gression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alled the least-squares f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model for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of the regression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ing slope…tells us how the data values are chang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ing tr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ing the future (not always accur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linear trend of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1 #8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1 #8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2 #9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2 #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4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near inequality in one variable is an inequality that cab be written in th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 + b &gt;0 where 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≠ 0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The symbol &gt; can be replaced by &lt;, ≤, or ≥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al No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 interval (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open interval ( ], [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sed interval [ 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inite interv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4 #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the equation rules when solving inequa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multiply or divide both sides by a negative flip the inequality 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4 #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Regression 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ata into L1 and L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 the scatter p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to s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Reg(a + b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= slope, b = y-inter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 with the points to see how close it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3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5 #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6 #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6 #8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7 #8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7 #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8 #9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5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cewise-Defin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2 #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Equ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f the equation has a constant rate of change then it is a 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inear functions are formulas for graphing straight l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lope intercept form:  y = mx +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tandard form:  ax + by = c, a and b are both integers, a&gt;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3 #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3 #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3 #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est Integer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[x]] is the greatest integer less than or equal to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lways round down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[1.2]]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[1.9]]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3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ing Absolute Value Equations and Inequa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 it into 2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ip the second symbol and 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4 #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5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Writing equations-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宋体"/>
              </a:rPr>
              <a:t>given slope and initial valu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initial value is when x = 0, which happens to be the y-intercept 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Use y = mx +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itial value of 35, slope of 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 phone company charges a flat fee of $29.99 plus $0.05 a minu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6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7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5 #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6 #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56 #1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 local school is going on a field trip.  The cost is $130 for the bus and an additional $2 per child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Write a formula for the linear function that models the cost for n childr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How much is it for 15 children to atte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.2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of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37:13Z</dcterms:created>
  <dc:creator>Amanda Beery</dc:creator>
  <dc:description/>
  <dc:language>en-US</dc:language>
  <cp:lastModifiedBy>abeery</cp:lastModifiedBy>
  <dcterms:modified xsi:type="dcterms:W3CDTF">2008-09-02T14:04:43Z</dcterms:modified>
  <cp:revision>7</cp:revision>
  <dc:subject/>
  <dc:title>2.1</dc:title>
</cp:coreProperties>
</file>